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320480" y="990360"/>
            <a:ext cx="6514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7932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87016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88884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7932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87016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320480" y="990360"/>
            <a:ext cx="6514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7932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7016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8884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7932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7016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7932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87016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88884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7932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87016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320480" y="990360"/>
            <a:ext cx="6514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7932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87016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8884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7932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87016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320480" y="990360"/>
            <a:ext cx="6514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7932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87016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88884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7932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87016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20480" y="990360"/>
            <a:ext cx="6514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7932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7016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8884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7932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7016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20480" y="990360"/>
            <a:ext cx="6514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7932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87016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88884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7932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87016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20480" y="990360"/>
            <a:ext cx="6514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7932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7016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8884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7932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7016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20480" y="990360"/>
            <a:ext cx="6514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20480" y="990360"/>
            <a:ext cx="6514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37932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87016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8884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37932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87016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20480" y="990360"/>
            <a:ext cx="6514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7932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7016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88884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7932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87016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320480" y="990360"/>
            <a:ext cx="6514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7932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7016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88884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7932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87016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320480" y="990360"/>
            <a:ext cx="65149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888840" y="4273560"/>
            <a:ext cx="736632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3440" y="219708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888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3440" y="4273560"/>
            <a:ext cx="35946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7932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70160" y="219708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88884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7932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870160" y="4273560"/>
            <a:ext cx="23716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6000"/>
          </a:bodyPr>
          <a:p>
            <a:pPr marL="609480" indent="-48744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85040" indent="-48744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542240" indent="-48744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011680" indent="-48744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474640" indent="-48744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474640" indent="-48744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474640" indent="-48744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888840" y="1206360"/>
            <a:ext cx="7366320" cy="4965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2000"/>
          </a:bodyPr>
          <a:p>
            <a:pPr marL="583920" indent="-467280">
              <a:spcBef>
                <a:spcPts val="29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39680" indent="-467280">
              <a:spcBef>
                <a:spcPts val="29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477800" indent="-467280">
              <a:spcBef>
                <a:spcPts val="29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27800" indent="-467280">
              <a:spcBef>
                <a:spcPts val="29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71680" indent="-467280">
              <a:spcBef>
                <a:spcPts val="29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371680" indent="-467280">
              <a:spcBef>
                <a:spcPts val="29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371680" indent="-467280">
              <a:spcBef>
                <a:spcPts val="29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45760" y="1676160"/>
            <a:ext cx="8039160" cy="2044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5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45760" y="3796920"/>
            <a:ext cx="8039160" cy="22352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38160" rIns="38160" tIns="38160" bIns="381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2000" spc="-1" strike="noStrike">
              <a:solidFill>
                <a:srgbClr val="d7e2ee"/>
              </a:solidFill>
              <a:latin typeface="Stone Sans ITC TT-Semi"/>
            </a:endParaRPr>
          </a:p>
          <a:p>
            <a:pPr lvl="1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2000" spc="-1" strike="noStrike">
              <a:solidFill>
                <a:srgbClr val="d7e2ee"/>
              </a:solidFill>
              <a:latin typeface="Stone Sans ITC TT-Semi"/>
            </a:endParaRPr>
          </a:p>
          <a:p>
            <a:pPr lvl="2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2000" spc="-1" strike="noStrike">
              <a:solidFill>
                <a:srgbClr val="d7e2ee"/>
              </a:solidFill>
              <a:latin typeface="Stone Sans ITC TT-Semi"/>
            </a:endParaRPr>
          </a:p>
          <a:p>
            <a:pPr lvl="3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2000" spc="-1" strike="noStrike">
              <a:solidFill>
                <a:srgbClr val="d7e2ee"/>
              </a:solidFill>
              <a:latin typeface="Stone Sans ITC TT-Semi"/>
            </a:endParaRPr>
          </a:p>
          <a:p>
            <a:pPr lvl="4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2000" spc="-1" strike="noStrike">
              <a:solidFill>
                <a:srgbClr val="d7e2ee"/>
              </a:solidFill>
              <a:latin typeface="Stone Sans ITC TT-Semi"/>
            </a:endParaRPr>
          </a:p>
          <a:p>
            <a:pPr lvl="5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2000" spc="-1" strike="noStrike">
              <a:solidFill>
                <a:srgbClr val="d7e2ee"/>
              </a:solidFill>
              <a:latin typeface="Stone Sans ITC TT-Semi"/>
            </a:endParaRPr>
          </a:p>
          <a:p>
            <a:pPr lvl="6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20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5760" y="2514600"/>
            <a:ext cx="8039160" cy="2044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56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5760" y="5308560"/>
            <a:ext cx="8039160" cy="11937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52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1739520"/>
            <a:ext cx="4394160" cy="19810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5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04920" y="3796920"/>
            <a:ext cx="4394160" cy="17780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38160" rIns="38160" tIns="38160" bIns="38160" anchor="t">
            <a:normAutofit fontScale="6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2400" spc="-1" strike="noStrike">
              <a:solidFill>
                <a:srgbClr val="d7e2ee"/>
              </a:solidFill>
              <a:latin typeface="Stone Sans ITC TT-Semi"/>
            </a:endParaRPr>
          </a:p>
          <a:p>
            <a:pPr lvl="1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2400" spc="-1" strike="noStrike">
              <a:solidFill>
                <a:srgbClr val="d7e2ee"/>
              </a:solidFill>
              <a:latin typeface="Stone Sans ITC TT-Semi"/>
            </a:endParaRPr>
          </a:p>
          <a:p>
            <a:pPr lvl="2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2400" spc="-1" strike="noStrike">
              <a:solidFill>
                <a:srgbClr val="d7e2ee"/>
              </a:solidFill>
              <a:latin typeface="Stone Sans ITC TT-Semi"/>
            </a:endParaRPr>
          </a:p>
          <a:p>
            <a:pPr lvl="3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2400" spc="-1" strike="noStrike">
              <a:solidFill>
                <a:srgbClr val="d7e2ee"/>
              </a:solidFill>
              <a:latin typeface="Stone Sans ITC TT-Semi"/>
            </a:endParaRPr>
          </a:p>
          <a:p>
            <a:pPr lvl="4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2400" spc="-1" strike="noStrike">
              <a:solidFill>
                <a:srgbClr val="d7e2ee"/>
              </a:solidFill>
              <a:latin typeface="Stone Sans ITC TT-Semi"/>
            </a:endParaRPr>
          </a:p>
          <a:p>
            <a:pPr lvl="5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2400" spc="-1" strike="noStrike">
              <a:solidFill>
                <a:srgbClr val="d7e2ee"/>
              </a:solidFill>
              <a:latin typeface="Stone Sans ITC TT-Semi"/>
            </a:endParaRPr>
          </a:p>
          <a:p>
            <a:pPr lvl="6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24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15560" y="2197080"/>
            <a:ext cx="32641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1000"/>
          </a:bodyPr>
          <a:p>
            <a:pPr marL="403560" indent="-3132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756000" indent="-31428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094400" indent="-31428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440360" indent="-3132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1782720" indent="-3132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1782720" indent="-3132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1782720" indent="-3132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marL="556920" indent="-43236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43640" indent="-4338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510560" indent="-4338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88280" indent="-43236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460960" indent="-43236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460960" indent="-43236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460960" indent="-43236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015560" y="2197080"/>
            <a:ext cx="32641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1000"/>
          </a:bodyPr>
          <a:p>
            <a:pPr marL="403560" indent="-3132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756000" indent="-31428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094400" indent="-31428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440360" indent="-3132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1782720" indent="-3132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1782720" indent="-3132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1782720" indent="-3132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663880" y="2197080"/>
            <a:ext cx="25909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2000"/>
          </a:bodyPr>
          <a:p>
            <a:pPr marL="352080" indent="-2736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660240" indent="-27432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955440" indent="-27432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257840" indent="-2736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1557000" indent="-2736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1557000" indent="-2736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1557000" indent="-2736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rtualsalt.com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105640" y="888840"/>
            <a:ext cx="4626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c0000"/>
                </a:solidFill>
                <a:latin typeface="Arial Black"/>
                <a:ea typeface="Arial Black"/>
              </a:rPr>
              <a:t>Decision Making</a:t>
            </a:r>
            <a:endParaRPr b="0" lang="en-US" sz="4700" spc="-1" strike="noStrike">
              <a:solidFill>
                <a:srgbClr val="000000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5575320"/>
            <a:ext cx="82422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Adapted from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1"/>
              </a:rPr>
              <a:t>www.virtualsalt.com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 by Robert Harris, 1998</a:t>
            </a:r>
            <a:endParaRPr b="0" lang="en-US" sz="1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2" name=""/>
          <p:cNvSpPr/>
          <p:nvPr/>
        </p:nvSpPr>
        <p:spPr>
          <a:xfrm>
            <a:off x="2950200" y="2880000"/>
            <a:ext cx="3242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  <a:ea typeface="Arial Black"/>
              </a:rPr>
              <a:t>presented 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  <a:ea typeface="Arial Black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  <a:ea typeface="Arial Black"/>
              </a:rPr>
              <a:t>Mr. Yuen&amp; Mme Touré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tone Sans ITC TT-Semi"/>
              </a:rPr>
              <a:t>Tactical </a:t>
            </a:r>
            <a:br>
              <a:rPr sz="4000"/>
            </a:br>
            <a:endParaRPr b="0" lang="en-US" sz="40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3286080"/>
            <a:ext cx="12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3076560"/>
            <a:ext cx="70995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11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supports strategic decisions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marL="1411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medium significance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tone Sans ITC TT-Semi"/>
              </a:rPr>
              <a:t>Operational</a:t>
            </a:r>
            <a:br>
              <a:rPr sz="4000"/>
            </a:br>
            <a:endParaRPr b="0" lang="en-US" sz="40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3287880"/>
            <a:ext cx="12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74" name=""/>
          <p:cNvSpPr/>
          <p:nvPr/>
        </p:nvSpPr>
        <p:spPr>
          <a:xfrm>
            <a:off x="1066680" y="2597040"/>
            <a:ext cx="709956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11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day to day decisions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marL="1411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support tactical decisions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marL="1411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impact immediate and short term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Decision Making Techniques 1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lvl="2" marL="1563840" indent="-609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-chart 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19160" indent="-5079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orderly chart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19160" indent="-5079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listing positives and negatives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19160" indent="-5079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e.g. Maillard Cafeteria food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Decision Making Techniques 2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lvl="2" marL="1182600" indent="-2286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PMI 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639800" indent="-2286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list the Plus, Minus, and what’s Interesting on a particular choice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639800" indent="-2286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lets you evaluate a deci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radley Hand ITC TT-Bold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 listing many points of view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639800" indent="-2286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jury example – protect the ego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Decision Making Techniques 3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lvl="2" marL="1182600" indent="-2286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Burden’s Ass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639800" indent="-2286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Used when 2 or more equally attractive alternatives are faced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639800" indent="-2286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rom an old fable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639800" indent="-2286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List all the negative points about each choice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Decision Making Techniques 4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lvl="2" marL="1266480" indent="-49392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Measured Criteria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554480" indent="-41112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List the criteria you want your decision to meet and assign points to each criterion based on its importance in the decision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554480" indent="-41112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Each alternative is given a certain number of points according to how fully it meets the criterion (e.g. scale from 1 to 10, or 1 to 100.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554480" indent="-41112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Add up the points for each alternative and decide the winner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3b3e"/>
                </a:solidFill>
                <a:latin typeface="Arial"/>
                <a:ea typeface="Arial"/>
              </a:rPr>
              <a:t>Try It </a:t>
            </a:r>
            <a:br>
              <a:rPr sz="4000"/>
            </a:br>
            <a:endParaRPr b="0" lang="en-US" sz="40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-Chart.  </a:t>
            </a: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reate a chart representing different perspective of a decision.  Find the pro and con of the Cafeteria at Maillard ordering food in from a restaurant?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Pr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Con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b3b3e"/>
                </a:solidFill>
                <a:latin typeface="Arial"/>
                <a:ea typeface="Arial"/>
              </a:rPr>
              <a:t>Try It </a:t>
            </a:r>
            <a:br>
              <a:rPr sz="4000"/>
            </a:br>
            <a:endParaRPr b="0" lang="en-US" sz="40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3086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MI worksheet.</a:t>
            </a: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3826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reate a PMI worksheet just like the one below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609480" y="3124080"/>
          <a:ext cx="8153280" cy="243828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69516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Mi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Inter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31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b3b3e"/>
                </a:solidFill>
                <a:latin typeface="Stone Sans ITC TT-Semi"/>
              </a:rPr>
              <a:t>PMI Questions</a:t>
            </a:r>
            <a:br>
              <a:rPr sz="4000"/>
            </a:br>
            <a:endParaRPr b="0" lang="en-US" sz="40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911240"/>
            <a:ext cx="6413400" cy="36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96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Select one of the following questions and list at least ten reasons pro and ten cons.  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396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396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396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Then on the back of the worksheet, name and defend your final decision on the quest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Questions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4000"/>
          </a:bodyPr>
          <a:p>
            <a:pPr marL="321120" indent="-2880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hould drivers in congested areas be charged 25 cents per mile during rush hours?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marL="321120" indent="-2880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hould manufacturers be required to reduce the amount of packaging they use for consumer products, as a mean of reducing garbage?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marL="321120" indent="-2880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hould people wanting to get marry be required to pass a compatibility test before being allowed to marry?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marL="321120" indent="-2880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hould parents be given $2500 each year to spend on their child’s education, to be applied toward education at any school, public, or private?  (in elementary, middle and high school)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9440" indent="-609840"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Decisions… Decisions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649440" indent="-609840"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Look at some ideas and different level of decision making 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649440" indent="-609840"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Look at different ways to make decision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649440" indent="-609840"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Practice our decision making skills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4" name=""/>
          <p:cNvSpPr/>
          <p:nvPr/>
        </p:nvSpPr>
        <p:spPr>
          <a:xfrm>
            <a:off x="1523880" y="317520"/>
            <a:ext cx="542304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Arial"/>
              </a:rPr>
              <a:t>GOALS….</a:t>
            </a:r>
            <a:endParaRPr b="0" lang="en-US" sz="80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Try it!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3000"/>
          </a:bodyPr>
          <a:p>
            <a:pPr marL="317520" indent="-2844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riden’s Ass.</a:t>
            </a: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  Do a Buriden’s Ass analysis on one of the following dilemmas.  Afterwards, choose and defend your choice for one of the alternatives.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317520" indent="-28440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Your kind boss wants to give you a raise. She offers you 3 choices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649440" indent="-2372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Take an increase in hourly pay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649440" indent="-2372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Work fewer hours per week but keep your pay the same, or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649440" indent="-2372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Take a long paid vacation each year and continue to work for the same hourly pay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Try it!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6000"/>
          </a:bodyPr>
          <a:p>
            <a:pPr marL="329040" indent="-29484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rough a careless accident, only your brain is left, sitting in a jar waiting for a transplant.  Your doctors have 3 choices for your brain: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672840" indent="-245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Transplant into an extremely attractive body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672840" indent="-245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Put it into the below average body of a multi-millionaire.  The millionaire’s estate will see you as the true millionaire, giving access to all the assets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672840" indent="-245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Put it into a rather homely person.  Only in this body is it possible for doctors to increase your intelligence level to highly superior 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672840" indent="-245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The bodies are the same age and health, etc.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b3b3e"/>
                </a:solidFill>
                <a:latin typeface="Arial"/>
                <a:ea typeface="Arial"/>
              </a:rPr>
              <a:t>Measured Criteria.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9440" indent="-609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opy the measured criteria chart below, 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649440" indent="-609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list the criteria and assigned each of them points based on their importance (e.g. comfort, speed, etc.).  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649440" indent="-609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Add up the scores in each criterion and decide on a best choice.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Measured Criteria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457200" y="1600200"/>
          <a:ext cx="8229600" cy="4714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96012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Possible point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Train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Plan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car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Comfort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30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Spee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15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Safety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20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Foo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10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Total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825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Bradley Hand ITC TT-Bold"/>
                          <a:ea typeface="ヒラギノ明朝 ProN W6"/>
                        </a:rPr>
                        <a:t>75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8160" marR="381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Bradley Hand ITC TT-Bold"/>
                      </a:endParaRPr>
                    </a:p>
                  </a:txBody>
                  <a:tcPr anchor="ctr" marL="37800" marR="378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612800" y="317520"/>
            <a:ext cx="6222960" cy="62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2625840" y="1600200"/>
            <a:ext cx="4041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5097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5097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509760" indent="-470160"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e first step in decision making  is planning….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Planning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509760" indent="-470160"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Decision making without planning is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50976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947880" indent="-436680"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airly common… but it’s often not very pretty.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9478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344600" indent="-395280"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It’s usually called crisis management or putting out fires.  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PLANNING….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36360" y="1823760"/>
            <a:ext cx="7186680" cy="5033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9440" indent="-609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Planning benefits decision making in 4 major ways: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PLANNING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49440" indent="-609840"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adley Hand ITC TT-Bold"/>
              </a:rPr>
              <a:t>Establishing the final goal</a:t>
            </a:r>
            <a:endParaRPr b="0" lang="en-US" sz="2600" spc="-1" strike="noStrike">
              <a:solidFill>
                <a:srgbClr val="000000"/>
              </a:solidFill>
              <a:latin typeface="Bradley Hand ITC TT-Bold"/>
            </a:endParaRPr>
          </a:p>
          <a:p>
            <a:pPr marL="649440" indent="-609840"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adley Hand ITC TT-Bold"/>
              </a:rPr>
              <a:t>Providing a way to measure success (e.g. If you don’t know where you’re going, it doesn’t matter which way you go)</a:t>
            </a:r>
            <a:endParaRPr b="0" lang="en-US" sz="2600" spc="-1" strike="noStrike">
              <a:solidFill>
                <a:srgbClr val="000000"/>
              </a:solidFill>
              <a:latin typeface="Bradley Hand ITC TT-Bold"/>
            </a:endParaRPr>
          </a:p>
          <a:p>
            <a:pPr marL="649440" indent="-609840"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adley Hand ITC TT-Bold"/>
              </a:rPr>
              <a:t>Planning changes values to actions (e.g. fire drill)</a:t>
            </a:r>
            <a:endParaRPr b="0" lang="en-US" sz="2600" spc="-1" strike="noStrike">
              <a:solidFill>
                <a:srgbClr val="000000"/>
              </a:solidFill>
              <a:latin typeface="Bradley Hand ITC TT-Bold"/>
            </a:endParaRPr>
          </a:p>
          <a:p>
            <a:pPr marL="649440" indent="-609840"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radley Hand ITC TT-Bold"/>
              </a:rPr>
              <a:t>Allowing the use of limited resources (e.g. buying a home or car)</a:t>
            </a:r>
            <a:endParaRPr b="0" lang="en-US" sz="26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Decision level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88840" y="2197080"/>
            <a:ext cx="73663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lvl="4" marL="2376360" indent="-641160"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trategic 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76360" indent="-641160"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actical 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76360" indent="-641160">
              <a:lnSpc>
                <a:spcPct val="100000"/>
              </a:lnSpc>
              <a:spcBef>
                <a:spcPts val="1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c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0480" y="990360"/>
            <a:ext cx="651492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tone Sans ITC TT-Semi"/>
              </a:rPr>
              <a:t>Strategic </a:t>
            </a:r>
            <a:br>
              <a:rPr sz="3400"/>
            </a:br>
            <a:endParaRPr b="0" lang="en-US" sz="3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0" y="3287880"/>
            <a:ext cx="12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68" name=""/>
          <p:cNvSpPr/>
          <p:nvPr/>
        </p:nvSpPr>
        <p:spPr>
          <a:xfrm>
            <a:off x="1828800" y="2444760"/>
            <a:ext cx="664200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411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highest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marL="1411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general direction 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marL="1411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long term goals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marL="1411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  <a:ea typeface="Bradley Hand ITC TT-Bold"/>
              </a:rPr>
              <a:t>philosophies and values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toure</dc:creator>
  <dc:description/>
  <dc:language>en-US</dc:language>
  <cp:lastModifiedBy/>
  <cp:revision>0</cp:revision>
  <dc:subject/>
  <dc:title>Slide 1</dc:title>
</cp:coreProperties>
</file>